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9D6-0153-4CBC-80D7-5BC022B0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F5C-7864-47A7-9CF7-52A4722D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B35-AE44-4F1E-A1D2-1CD52E54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DA8-619D-4421-9659-A1AF8838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842-2815-4404-A856-14CED5BE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325-B997-40E0-BA68-A4DA437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D6A-ACB4-4D86-8628-D07A003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71F-860B-4E16-BDB6-4BD8EA56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778-9206-4FEC-A602-B6494DA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631-7F83-4AAF-8C47-0BFE4C9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FC1-1946-4409-BDF7-419B506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820-2447-4A16-8C6C-946CAE8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DEA-F302-4D84-838E-61BA9A7E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86280" cy="64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9625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91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7620120" cy="158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1676520"/>
            <a:ext cx="7621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676520"/>
            <a:ext cx="9903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167652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99072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10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05920" cy="170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762120"/>
            <a:ext cx="3581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371600"/>
            <a:ext cx="9907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1371600"/>
            <a:ext cx="7621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371600"/>
            <a:ext cx="9907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64771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391520" cy="1654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95680" y="1447920"/>
            <a:ext cx="990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456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86200" y="20574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2590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20040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12193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31:13Z</dcterms:created>
  <dc:creator>grahams</dc:creator>
  <dc:description/>
  <dc:language>en-US</dc:language>
  <cp:lastModifiedBy>grahams</cp:lastModifiedBy>
  <dcterms:modified xsi:type="dcterms:W3CDTF">2012-03-20T14:14:40Z</dcterms:modified>
  <cp:revision>2</cp:revision>
  <dc:subject/>
  <dc:title>Slide 1</dc:title>
</cp:coreProperties>
</file>